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ED4C-B1F8-4E09-AABF-CBDC374E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5DD-ABBD-4B1E-AB19-409385E8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9EEA-8B8A-4D17-A919-42D61009A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148-F0EB-4F50-857B-C6450A37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4D0-8892-43AB-8ADC-CC5B806C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0F4E-659C-4CD9-836A-96EE93FB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E927-10D6-47E4-85F0-507D8E91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0669-7481-404C-865D-18D9FEA1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A06-5F1A-41A7-8B4A-7A0F51AB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D288-DB1E-4C88-AD03-4C5AD0FB8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D20-24F9-4F12-85A5-E5908352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AE6F-93F7-480A-8162-C4D8A237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8F3-4E77-4CD9-8D89-F981BC78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090-6746-4A05-A528-7F6BB4A1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3B6D2-562A-40CA-8CF8-A0F4F08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C3F2D-BEA7-412E-9014-96FD0535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87546-65EC-4E10-AA2B-64618539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D351-476E-4614-8CE9-0531126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FB389-0988-410F-A650-21C5442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5D3FA-0C69-4C36-B4DE-146B331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258E-DDBC-4E7F-A095-260168E2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62709-F8A4-403B-B391-6958D241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243ED-AE8F-4616-B36A-E5F69CA5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217-4E61-43AA-B034-82E62A87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F4F-C954-489E-A086-110C3CDA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05E-4068-4679-9911-214D91D4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7F3-59F5-42F7-8357-FF5629AC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2634-A225-41C4-8DC3-112783F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D18E-1337-4CCD-B0FB-01345A7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E4AD-9093-43B4-9167-B97F5A0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E384-CD4B-41FC-93D2-A48AEBF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DBF-FA19-4977-8E25-9F4B14AB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B5F-5E14-4A3B-BB74-63E59C8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4C5C-36CD-40EC-B96E-DC4F310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7E6B-BA83-4F0C-9D77-7842E17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0AE-BA62-4140-AE60-3D4C973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4B83-C10F-4EC9-BB41-BB9CBAD5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362-F098-4F9F-9BBF-3D03406A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A5AD-D79A-4E2F-9CDD-1168300F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29C6-BBBE-4D6D-965E-0D60F3CA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FBAD-A5C4-4958-9025-588B5171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6CF9-6187-415E-9915-B487F4CF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E4A5-8B9A-4CEA-A4F0-0B441C90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F0C-8E87-42B4-A0CE-DAEC470E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B088-0F92-4400-8CF7-4585B16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6E4B6-F2EE-4CFA-B67E-77F3F76E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34D6-9603-448C-8212-89A3B16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DBDA-CF20-48C2-AB53-0F4C8B2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9308-F2D5-436E-8160-6DA2D5DF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6678-2051-4431-81A7-EF4C2D2B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AB6B-D082-49DC-B4C7-DE3EF869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D73E-9EAD-4F42-A145-5E4CD368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F98B-2B69-4ECF-A30C-BAABC284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C760-7F69-4CFE-82D4-2D8C8E50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A05-F0D8-4DFE-A01C-E83DBD9B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D833-FBE1-41E3-B180-2CC14C9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21C8C-48A4-4382-A9E4-4FDDF902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4B1E-C9B4-4000-82AB-5CD48E2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06CF-93B5-49A4-B67A-84D6245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A5CD-9BAE-48D8-BBFE-DF6FB9C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AF63-5EAA-4798-9010-47035B18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A155-3FE0-4010-B1EB-6B51F444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D7AD-767E-4B2F-ACA0-9F461667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003D-549C-4DB5-9ED6-1D536C07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8860-1DE1-4542-8279-7DE417E4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75D-DDD3-40DC-823D-8D3D437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9956-7E2E-4004-A2AD-86E76DC0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67FB-7A74-45B3-AD34-9AC55F8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B315-F70D-4518-A04A-D2436B8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9BAB-41F0-4000-BB94-8EF7214C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AB7A-A81F-4FF6-94D3-EF93B66E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BB09A-3682-41D3-A00B-B071C3E0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F4DF-90E1-4A2B-A8F4-B1F0C8E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97CD-55E5-4569-AFC1-0FC3F7C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618F1-8547-477E-B441-4AA0DED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9D352-E1AB-4A56-A8F2-ED28A9EA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170-C3F3-4588-BB93-B01F1E17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210E-04F6-43DE-8CB0-13064C99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06E8D-B06F-4DA7-A6F7-53A2815C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F6A6-8EC5-4EF1-AB38-945488D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7456D-B3E6-499D-93EE-9BFB688F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26EE-34E3-4C67-A874-7C17C22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F233E-0FCE-47FB-8AF9-EFDF91E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929B-4ED6-45AA-9587-EB6EFF6A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AADE-5A0F-4A34-990E-59B8027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5167-8266-48BC-A39F-EC64D769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1953-B118-4A9C-8724-089E5F1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C4C-F68D-4CE0-99B9-8CFADE55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8919C-D873-4136-99FF-1847375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098C-F8C5-4F0E-90C7-9AC53755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68C2-9D89-495C-8453-2372483E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FBE6F-6B56-4CCA-B877-C455AE80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AA1D4-596A-4899-8BDB-A06079B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A2DAB-ACF2-4065-8FAC-59586115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2DF6-086E-4379-B4F8-B1EDE777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D6DA9-47C9-46CE-B2E3-C621B94A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3FFA8-6658-474D-BD59-3DB1E5FD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867A2-212E-47D8-A0ED-7DECC96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BBC-DACB-4CC4-877E-79684931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91573-183D-4D89-8209-2A4A51A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97C85-B95B-41FF-94FC-8FD7A3A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BFB6-09A6-4F61-A881-358AF97F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72016-4242-4B2C-92A4-2A770B2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EFA9-2415-4777-AFC7-1FD48E71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D096B-EC30-40C2-AA36-3DA9F70B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5666-780A-48ED-995B-0B70B1A0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9B1A-2408-4117-B85E-69D3537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8A721-91A7-4A86-8978-75EE1912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0F64-E1B4-4F4D-BA83-0FBAC66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9D4-9FCC-493E-9D99-E08F8DA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0663B-9620-4864-987D-17963524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5AE3-779F-436A-BDD2-8B64D59A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A5755-02DE-49DD-8020-BD606AC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5A8E0-2349-467D-B5D0-0D83E81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74C99-AD53-4055-A8B7-5417439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FEBB-6B6E-4112-BD74-3E7B4417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2BAC2-8F71-4725-8A48-6A123595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51D9B-1A81-4C53-9340-E34727BE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08353-59A0-43B8-872E-6ADB21F7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43327-C729-4EA9-98F0-F35EEB0E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DDB6-C36A-43D6-B24F-D32CEAB4D304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5CEC-389B-4F87-9B7C-E2AFB1D2B8A4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7C4-74DB-4A9E-BEFB-CEA9F8037285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CAC1-5CBE-468D-8BED-B13B0F8261C5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781-B86A-442C-B5DB-09028556040F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7BB3-9A28-4116-B3D3-09A951759589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B151-7B57-4BAC-BBE3-D36162D8B216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B836-6F69-4AC3-9810-C5E3E3D652F6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1307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C839-6899-4A10-A6FA-B163023B3CDA}" type="slidenum">
              <a:rPr b="0" lang="en-US" sz="1200" spc="-1" strike="noStrike">
                <a:solidFill>
                  <a:srgbClr val="e1307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3" descr=""/>
          <p:cNvPicPr/>
          <p:nvPr/>
        </p:nvPicPr>
        <p:blipFill>
          <a:blip r:embed="rId2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tuational irony – occurs when what actually happens is opposite of what is expected or appropriat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Have you ever had a possession that you valued so much you could not imagine giving it up under ANY circumstances?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Originated in the Church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Provided religious instruction (most of the population could not read)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ystery plays – based on Biblical history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Franklin Gothic Book"/>
              </a:rPr>
              <a:t>Passion plays – re-enacted events in the last week of the life of Jesus Christ (Last Supper, Betrayal, Crucifixion)</a:t>
            </a:r>
            <a:endParaRPr b="0" lang="en-US" sz="24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iracle plays – based on legends of saints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Franklin Gothic Book"/>
              </a:rPr>
              <a:t>Morality plays – featured personified virtues and vices; members of guilds presented these plays, performing the parts of the story that best represented their crafts (Bakers = Last Supper; Shipbuilders = Noah’s Ark)</a:t>
            </a:r>
            <a:endParaRPr b="0" lang="en-US" sz="27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verse narrative which traces the adventures of a brave knight or other hero who has to overcome danger for love of a noble lady or high idea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The greatest English example is </a:t>
            </a:r>
            <a:r>
              <a:rPr b="0" i="1" lang="en-US" sz="2800" spc="-1" strike="noStrike">
                <a:solidFill>
                  <a:srgbClr val="666666"/>
                </a:solidFill>
                <a:latin typeface="Franklin Gothic Book"/>
              </a:rPr>
              <a:t>Sir Gawain and the Green Knight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et in a world in which ordinary laws of nature are suspended and idealized heroes fight, and almost always conquer, the forces of evil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Usually born under mysterious circumstance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Grows up in obscurity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Undergoes a childhood initiation involving a magic weapon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In maturity, fights to defeat evil and promote peace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Aided by magic weapons and mentor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25800" indent="-32580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Mysterious events surround his departure from this world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Near-perfect hero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Evil enemy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Quest – a perilous journey in search of something of value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Test of a hero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Supernatural element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Good vs. evil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Female figure – maidens, mothers, crones (witch-like old lady)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dangerous journey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test of the hero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 return to the starting point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Probably written around 1375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Ideals of knightly conduct – courage, loyalty, courtesy – were beginning to erod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Sir Gawain is one of King Arthur’s knights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The story contains all of the elements of a traditional English romance.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n excerpt from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Le Morte d’Arthur</a:t>
            </a: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, or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The Death of Arthur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Written by Sir Thomas Malory 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Archetype – a model; someone who is familiar to all, regardless of time or place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rthur is an archetype of the romance hero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Written by Giovanni Boccaccio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Franklin Gothic Book"/>
              </a:rPr>
              <a:t>Part of the </a:t>
            </a:r>
            <a:r>
              <a:rPr b="0" i="1" lang="en-US" sz="3200" spc="-1" strike="noStrike">
                <a:solidFill>
                  <a:srgbClr val="666666"/>
                </a:solidFill>
                <a:latin typeface="Franklin Gothic Book"/>
              </a:rPr>
              <a:t>Decameron</a:t>
            </a:r>
            <a:endParaRPr b="0" lang="en-US" sz="32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Written in  vernacular Italian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100 tales which deal with love and the corruption of the clergy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daptations of popular folk tales, fables, anecdotes, or jokes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Franklin Gothic Book"/>
              </a:rPr>
              <a:t>A frame story</a:t>
            </a:r>
            <a:endParaRPr b="0" lang="en-US" sz="28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An introductory narrative within which one or more of the characters proceed to tell individual stories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The </a:t>
            </a:r>
            <a:r>
              <a:rPr b="0" i="1" lang="en-US" sz="3000" spc="-1" strike="noStrike">
                <a:solidFill>
                  <a:srgbClr val="666666"/>
                </a:solidFill>
                <a:latin typeface="Franklin Gothic Book"/>
              </a:rPr>
              <a:t>Decameron</a:t>
            </a:r>
            <a:r>
              <a:rPr b="0" lang="en-US" sz="3000" spc="-1" strike="noStrike">
                <a:solidFill>
                  <a:srgbClr val="666666"/>
                </a:solidFill>
                <a:latin typeface="Franklin Gothic Book"/>
              </a:rPr>
              <a:t> – </a:t>
            </a:r>
            <a:endParaRPr b="0" lang="en-US" sz="30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Ten wealthy Florentines leave the city to escape the plague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For each of ten days, a king or queen will be named.  He or she will select a theme and the others will tell stories based on that theme.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“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Federigo’s Falcon” was the 9</a:t>
            </a:r>
            <a:r>
              <a:rPr b="0" lang="en-US" sz="2600" spc="-1" strike="noStrike" baseline="30000">
                <a:solidFill>
                  <a:srgbClr val="666666"/>
                </a:solidFill>
                <a:latin typeface="Franklin Gothic Book"/>
              </a:rPr>
              <a:t>th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 story told on the 5</a:t>
            </a:r>
            <a:r>
              <a:rPr b="0" lang="en-US" sz="2600" spc="-1" strike="noStrike" baseline="30000">
                <a:solidFill>
                  <a:srgbClr val="666666"/>
                </a:solidFill>
                <a:latin typeface="Franklin Gothic Book"/>
              </a:rPr>
              <a:t>th</a:t>
            </a:r>
            <a:r>
              <a:rPr b="0" lang="en-US" sz="2600" spc="-1" strike="noStrike">
                <a:solidFill>
                  <a:srgbClr val="666666"/>
                </a:solidFill>
                <a:latin typeface="Franklin Gothic Book"/>
              </a:rPr>
              <a:t> day, a day devoted to stories with happy endings.</a:t>
            </a: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6:04:21Z</dcterms:created>
  <dc:creator>pcoles</dc:creator>
  <dc:description/>
  <dc:language>en-US</dc:language>
  <cp:lastModifiedBy>Trina Vest</cp:lastModifiedBy>
  <dcterms:modified xsi:type="dcterms:W3CDTF">2010-09-07T13:09:50Z</dcterms:modified>
  <cp:revision>54</cp:revision>
  <dc:subject/>
  <dc:title>Slide 1</dc:title>
</cp:coreProperties>
</file>